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71A-9395-49EF-A270-E59147CF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C3F-D0AE-4B52-8E5C-1BB28EC6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BEC-916F-4917-838E-CA320588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D27-4ABA-4DF2-ABAD-63937ED8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65C-A523-443F-A710-353B4153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FAA-9217-454A-A032-3C87B37D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D2C-1CAE-4D21-B815-340F3CB9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046-2202-4CA2-990E-AE92BF08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FA8-6D02-4779-A794-5599020C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56B-44E8-4ABE-9F0A-87EA369F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72D-C62F-411D-90A4-699EB888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B5D7-8E84-4CAC-8FA7-5D974455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5A11-77D2-423E-923B-1D744D6BE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your co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ree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your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each of these columns, write how you would do each of the following in that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someone that they have offended you and you no longer would like to associate with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permission to do something they might consider od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ince someone to do you a fav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upon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fferences do you see between the answ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ust you consider when speaking to each grou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the differences between the answers mean about the way you communica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apply to your pap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the way you talk, and then there is the way you wr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develop an authorial vo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…in wri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1:28:11Z</dcterms:created>
  <dc:creator>Administrator</dc:creator>
  <dc:description/>
  <dc:language>en-US</dc:language>
  <cp:lastModifiedBy>Administrator</cp:lastModifiedBy>
  <dcterms:modified xsi:type="dcterms:W3CDTF">2010-10-21T14:32:57Z</dcterms:modified>
  <cp:revision>8</cp:revision>
  <dc:subject/>
  <dc:title>Slide 1</dc:title>
</cp:coreProperties>
</file>